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7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除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08000" y="1957320"/>
            <a:ext cx="904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已知比一个数多（少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几分之几是多少求这个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436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52560" y="4503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2560" y="3429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左大括号 55" descr=""/>
          <p:cNvPicPr/>
          <p:nvPr/>
        </p:nvPicPr>
        <p:blipFill>
          <a:blip r:embed="rId2"/>
          <a:stretch/>
        </p:blipFill>
        <p:spPr>
          <a:xfrm>
            <a:off x="5846760" y="3267000"/>
            <a:ext cx="755640" cy="182520"/>
          </a:xfrm>
          <a:prstGeom prst="rect">
            <a:avLst/>
          </a:prstGeom>
          <a:ln w="0">
            <a:noFill/>
          </a:ln>
        </p:spPr>
      </p:pic>
      <p:sp>
        <p:nvSpPr>
          <p:cNvPr id="414" name="TextBox 69"/>
          <p:cNvSpPr/>
          <p:nvPr/>
        </p:nvSpPr>
        <p:spPr>
          <a:xfrm>
            <a:off x="4143240" y="3792600"/>
            <a:ext cx="6429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3857760" y="3000240"/>
            <a:ext cx="10713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？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00040" y="2038320"/>
            <a:ext cx="6357960" cy="1765440"/>
            <a:chOff x="500040" y="2038320"/>
            <a:chExt cx="6357960" cy="1765440"/>
          </a:xfrm>
        </p:grpSpPr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6259320" y="2827440"/>
              <a:ext cx="177840" cy="45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8" name=""/>
            <p:cNvGrpSpPr/>
            <p:nvPr/>
          </p:nvGrpSpPr>
          <p:grpSpPr>
            <a:xfrm>
              <a:off x="2286000" y="2643120"/>
              <a:ext cx="3571920" cy="142920"/>
              <a:chOff x="2286000" y="2643120"/>
              <a:chExt cx="3571920" cy="142920"/>
            </a:xfrm>
          </p:grpSpPr>
          <p:sp>
            <p:nvSpPr>
              <p:cNvPr id="419" name="直接连接符 71"/>
              <p:cNvSpPr/>
              <p:nvPr/>
            </p:nvSpPr>
            <p:spPr>
              <a:xfrm flipV="1">
                <a:off x="2287440" y="2784600"/>
                <a:ext cx="357048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接连接符 72"/>
              <p:cNvSpPr/>
              <p:nvPr/>
            </p:nvSpPr>
            <p:spPr>
              <a:xfrm flipH="1">
                <a:off x="228600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接连接符 73"/>
              <p:cNvSpPr/>
              <p:nvPr/>
            </p:nvSpPr>
            <p:spPr>
              <a:xfrm flipH="1">
                <a:off x="5142240" y="264312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接连接符 74"/>
              <p:cNvSpPr/>
              <p:nvPr/>
            </p:nvSpPr>
            <p:spPr>
              <a:xfrm flipH="1">
                <a:off x="300024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直接连接符 75"/>
              <p:cNvSpPr/>
              <p:nvPr/>
            </p:nvSpPr>
            <p:spPr>
              <a:xfrm flipH="1">
                <a:off x="371448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直接连接符 76"/>
              <p:cNvSpPr/>
              <p:nvPr/>
            </p:nvSpPr>
            <p:spPr>
              <a:xfrm flipH="1">
                <a:off x="5856480" y="264312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直接连接符 77"/>
              <p:cNvSpPr/>
              <p:nvPr/>
            </p:nvSpPr>
            <p:spPr>
              <a:xfrm flipH="1">
                <a:off x="442872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298600" y="3341520"/>
              <a:ext cx="4300560" cy="160560"/>
              <a:chOff x="2298600" y="3341520"/>
              <a:chExt cx="4300560" cy="160560"/>
            </a:xfrm>
          </p:grpSpPr>
          <p:sp>
            <p:nvSpPr>
              <p:cNvPr id="427" name="直接连接符 88"/>
              <p:cNvSpPr/>
              <p:nvPr/>
            </p:nvSpPr>
            <p:spPr>
              <a:xfrm>
                <a:off x="2298600" y="3500640"/>
                <a:ext cx="42872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接连接符 90"/>
              <p:cNvSpPr/>
              <p:nvPr/>
            </p:nvSpPr>
            <p:spPr>
              <a:xfrm flipH="1">
                <a:off x="4453920" y="334152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直接连接符 91"/>
              <p:cNvSpPr/>
              <p:nvPr/>
            </p:nvSpPr>
            <p:spPr>
              <a:xfrm flipH="1">
                <a:off x="231120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直接连接符 92"/>
              <p:cNvSpPr/>
              <p:nvPr/>
            </p:nvSpPr>
            <p:spPr>
              <a:xfrm flipH="1">
                <a:off x="302580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直接连接符 93"/>
              <p:cNvSpPr/>
              <p:nvPr/>
            </p:nvSpPr>
            <p:spPr>
              <a:xfrm flipH="1">
                <a:off x="5168520" y="334152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直接连接符 94"/>
              <p:cNvSpPr/>
              <p:nvPr/>
            </p:nvSpPr>
            <p:spPr>
              <a:xfrm flipH="1">
                <a:off x="374040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接连接符 95"/>
              <p:cNvSpPr/>
              <p:nvPr/>
            </p:nvSpPr>
            <p:spPr>
              <a:xfrm flipH="1">
                <a:off x="6597720" y="334152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96"/>
              <p:cNvSpPr/>
              <p:nvPr/>
            </p:nvSpPr>
            <p:spPr>
              <a:xfrm flipH="1">
                <a:off x="588384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500040" y="2038320"/>
              <a:ext cx="6357960" cy="1765440"/>
              <a:chOff x="500040" y="2038320"/>
              <a:chExt cx="6357960" cy="1765440"/>
            </a:xfrm>
          </p:grpSpPr>
          <p:sp>
            <p:nvSpPr>
              <p:cNvPr id="436" name="TextBox 66"/>
              <p:cNvSpPr/>
              <p:nvPr/>
            </p:nvSpPr>
            <p:spPr>
              <a:xfrm>
                <a:off x="3643200" y="2038320"/>
                <a:ext cx="1000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Box 102"/>
              <p:cNvSpPr/>
              <p:nvPr/>
            </p:nvSpPr>
            <p:spPr>
              <a:xfrm>
                <a:off x="500040" y="2467080"/>
                <a:ext cx="1984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篮球队人数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Box 103"/>
              <p:cNvSpPr/>
              <p:nvPr/>
            </p:nvSpPr>
            <p:spPr>
              <a:xfrm>
                <a:off x="500040" y="3181320"/>
                <a:ext cx="2055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足球队人数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67"/>
              <p:cNvSpPr/>
              <p:nvPr/>
            </p:nvSpPr>
            <p:spPr>
              <a:xfrm>
                <a:off x="5786280" y="2898720"/>
                <a:ext cx="1071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左大括号 63"/>
              <p:cNvSpPr/>
              <p:nvPr/>
            </p:nvSpPr>
            <p:spPr>
              <a:xfrm rot="5400000">
                <a:off x="3948840" y="749880"/>
                <a:ext cx="214200" cy="3571920"/>
              </a:xfrm>
              <a:custGeom>
                <a:avLst/>
                <a:gdLst>
                  <a:gd name="textAreaLeft" fmla="*/ 136800 w 214200"/>
                  <a:gd name="textAreaRight" fmla="*/ 214560 w 214200"/>
                  <a:gd name="textAreaTop" fmla="*/ 22320 h 3571920"/>
                  <a:gd name="textAreaBottom" fmla="*/ 3549600 h 357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219"/>
                      <a:pt x="10800" y="438"/>
                    </a:cubicBezTo>
                    <a:lnTo>
                      <a:pt x="10800" y="10362"/>
                    </a:lnTo>
                    <a:cubicBezTo>
                      <a:pt x="10800" y="10581"/>
                      <a:pt x="5400" y="10800"/>
                      <a:pt x="0" y="10800"/>
                    </a:cubicBezTo>
                    <a:cubicBezTo>
                      <a:pt x="5400" y="10800"/>
                      <a:pt x="10800" y="11019"/>
                      <a:pt x="10800" y="11238"/>
                    </a:cubicBezTo>
                    <a:lnTo>
                      <a:pt x="10800" y="21162"/>
                    </a:lnTo>
                    <a:cubicBezTo>
                      <a:pt x="10800" y="21381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1" name="左大括号 7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62240" y="3548160"/>
                <a:ext cx="433368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直接连接符 105"/>
              <p:cNvSpPr/>
              <p:nvPr/>
            </p:nvSpPr>
            <p:spPr>
              <a:xfrm>
                <a:off x="5842080" y="2270160"/>
                <a:ext cx="33120" cy="1501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左大括号 110"/>
              <p:cNvSpPr/>
              <p:nvPr/>
            </p:nvSpPr>
            <p:spPr>
              <a:xfrm rot="16200000">
                <a:off x="4000320" y="1142280"/>
                <a:ext cx="142920" cy="357192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14760 h 3571920"/>
                  <a:gd name="textAreaBottom" fmla="*/ 3557160 h 357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46"/>
                      <a:pt x="10800" y="291"/>
                    </a:cubicBezTo>
                    <a:lnTo>
                      <a:pt x="10800" y="10509"/>
                    </a:lnTo>
                    <a:cubicBezTo>
                      <a:pt x="10800" y="10655"/>
                      <a:pt x="5400" y="10800"/>
                      <a:pt x="0" y="10800"/>
                    </a:cubicBezTo>
                    <a:cubicBezTo>
                      <a:pt x="5400" y="10800"/>
                      <a:pt x="10800" y="10946"/>
                      <a:pt x="10800" y="11091"/>
                    </a:cubicBezTo>
                    <a:lnTo>
                      <a:pt x="10800" y="21309"/>
                    </a:lnTo>
                    <a:cubicBezTo>
                      <a:pt x="10800" y="21455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755640" y="1398600"/>
            <a:ext cx="8572680" cy="778680"/>
            <a:chOff x="755640" y="1398600"/>
            <a:chExt cx="8572680" cy="778680"/>
          </a:xfrm>
        </p:grpSpPr>
        <p:sp>
          <p:nvSpPr>
            <p:cNvPr id="445" name="TextBox 44"/>
            <p:cNvSpPr/>
            <p:nvPr/>
          </p:nvSpPr>
          <p:spPr>
            <a:xfrm>
              <a:off x="755640" y="1598760"/>
              <a:ext cx="8572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学校足球队一共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，比篮球队的人数多      ，篮球队有多少人？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046920" y="1398600"/>
              <a:ext cx="511200" cy="778680"/>
              <a:chOff x="6046920" y="1398600"/>
              <a:chExt cx="511200" cy="778680"/>
            </a:xfrm>
          </p:grpSpPr>
          <p:sp>
            <p:nvSpPr>
              <p:cNvPr id="447" name=""/>
              <p:cNvSpPr/>
              <p:nvPr/>
            </p:nvSpPr>
            <p:spPr>
              <a:xfrm>
                <a:off x="6053400" y="17542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46920" y="13986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62760" y="18176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"/>
          <p:cNvGrpSpPr/>
          <p:nvPr/>
        </p:nvGrpSpPr>
        <p:grpSpPr>
          <a:xfrm>
            <a:off x="500040" y="4087800"/>
            <a:ext cx="3786120" cy="2253960"/>
            <a:chOff x="500040" y="4087800"/>
            <a:chExt cx="3786120" cy="2253960"/>
          </a:xfrm>
        </p:grpSpPr>
        <p:sp>
          <p:nvSpPr>
            <p:cNvPr id="451" name="TextBox 22"/>
            <p:cNvSpPr/>
            <p:nvPr/>
          </p:nvSpPr>
          <p:spPr>
            <a:xfrm>
              <a:off x="571320" y="4383000"/>
              <a:ext cx="371484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：设篮球队有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21"/>
            <p:cNvSpPr/>
            <p:nvPr/>
          </p:nvSpPr>
          <p:spPr>
            <a:xfrm>
              <a:off x="500040" y="4087800"/>
              <a:ext cx="1643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673280" y="4743360"/>
              <a:ext cx="511200" cy="778680"/>
              <a:chOff x="1673280" y="4743360"/>
              <a:chExt cx="511200" cy="778680"/>
            </a:xfrm>
          </p:grpSpPr>
          <p:sp>
            <p:nvSpPr>
              <p:cNvPr id="454" name=""/>
              <p:cNvSpPr/>
              <p:nvPr/>
            </p:nvSpPr>
            <p:spPr>
              <a:xfrm>
                <a:off x="1679760" y="50990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673280" y="4743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689120" y="51624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1652400" y="5396040"/>
              <a:ext cx="511200" cy="778320"/>
              <a:chOff x="1652400" y="5396040"/>
              <a:chExt cx="511200" cy="778320"/>
            </a:xfrm>
          </p:grpSpPr>
          <p:sp>
            <p:nvSpPr>
              <p:cNvPr id="458" name=""/>
              <p:cNvSpPr/>
              <p:nvPr/>
            </p:nvSpPr>
            <p:spPr>
              <a:xfrm>
                <a:off x="1658880" y="57513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652400" y="53960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68240" y="58147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357800" y="4071960"/>
            <a:ext cx="3714480" cy="2086200"/>
            <a:chOff x="4357800" y="4071960"/>
            <a:chExt cx="3714480" cy="2086200"/>
          </a:xfrm>
        </p:grpSpPr>
        <p:sp>
          <p:nvSpPr>
            <p:cNvPr id="462" name="TextBox 30"/>
            <p:cNvSpPr/>
            <p:nvPr/>
          </p:nvSpPr>
          <p:spPr>
            <a:xfrm>
              <a:off x="4714560" y="4071960"/>
              <a:ext cx="1642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1"/>
            <p:cNvSpPr/>
            <p:nvPr/>
          </p:nvSpPr>
          <p:spPr>
            <a:xfrm>
              <a:off x="4357800" y="4500720"/>
              <a:ext cx="371448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：设篮球队有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790960" y="4775400"/>
              <a:ext cx="510480" cy="778320"/>
              <a:chOff x="5790960" y="4775400"/>
              <a:chExt cx="510480" cy="778320"/>
            </a:xfrm>
          </p:grpSpPr>
          <p:sp>
            <p:nvSpPr>
              <p:cNvPr id="465" name=""/>
              <p:cNvSpPr/>
              <p:nvPr/>
            </p:nvSpPr>
            <p:spPr>
              <a:xfrm>
                <a:off x="5797080" y="51307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90960" y="477540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06440" y="519408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972040" y="5251320"/>
              <a:ext cx="510480" cy="778680"/>
              <a:chOff x="5972040" y="5251320"/>
              <a:chExt cx="510480" cy="778680"/>
            </a:xfrm>
          </p:grpSpPr>
          <p:sp>
            <p:nvSpPr>
              <p:cNvPr id="469" name=""/>
              <p:cNvSpPr/>
              <p:nvPr/>
            </p:nvSpPr>
            <p:spPr>
              <a:xfrm>
                <a:off x="5978160" y="560700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972040" y="52513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987520" y="567036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1104840" y="2362320"/>
            <a:ext cx="69674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228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42960" y="148428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看图回答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0"/>
          <p:cNvSpPr/>
          <p:nvPr/>
        </p:nvSpPr>
        <p:spPr>
          <a:xfrm>
            <a:off x="285840" y="3873600"/>
            <a:ext cx="1071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1"/>
          <p:cNvSpPr/>
          <p:nvPr/>
        </p:nvSpPr>
        <p:spPr>
          <a:xfrm>
            <a:off x="1071720" y="3906720"/>
            <a:ext cx="807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图中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222200" y="239724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女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204920" y="304488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男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70040" y="1979640"/>
            <a:ext cx="3606840" cy="1754280"/>
            <a:chOff x="2570040" y="1979640"/>
            <a:chExt cx="3606840" cy="1754280"/>
          </a:xfrm>
        </p:grpSpPr>
        <p:grpSp>
          <p:nvGrpSpPr>
            <p:cNvPr id="50" name=""/>
            <p:cNvGrpSpPr/>
            <p:nvPr/>
          </p:nvGrpSpPr>
          <p:grpSpPr>
            <a:xfrm>
              <a:off x="2585880" y="2374920"/>
              <a:ext cx="3591000" cy="1009440"/>
              <a:chOff x="2585880" y="2374920"/>
              <a:chExt cx="3591000" cy="100944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585880" y="3313080"/>
                <a:ext cx="3583080" cy="71280"/>
                <a:chOff x="2585880" y="3313080"/>
                <a:chExt cx="3583080" cy="7128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2585880" y="3313080"/>
                  <a:ext cx="719280" cy="71280"/>
                  <a:chOff x="2585880" y="3313080"/>
                  <a:chExt cx="719280" cy="7128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2585880" y="3384360"/>
                    <a:ext cx="719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585880" y="3313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3300120" y="3313080"/>
                  <a:ext cx="719280" cy="71280"/>
                  <a:chOff x="3300120" y="3313080"/>
                  <a:chExt cx="719280" cy="7128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3300120" y="3384360"/>
                    <a:ext cx="719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300120" y="3313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4014720" y="3313080"/>
                  <a:ext cx="718920" cy="71280"/>
                  <a:chOff x="4014720" y="3313080"/>
                  <a:chExt cx="718920" cy="712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4014720" y="338436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014720" y="3313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4733640" y="3313080"/>
                  <a:ext cx="719280" cy="71280"/>
                  <a:chOff x="4733640" y="3313080"/>
                  <a:chExt cx="719280" cy="7128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4733640" y="3384360"/>
                    <a:ext cx="719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4733640" y="3313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5449680" y="3313080"/>
                  <a:ext cx="719280" cy="71280"/>
                  <a:chOff x="5449680" y="3313080"/>
                  <a:chExt cx="719280" cy="7128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5449680" y="3384360"/>
                    <a:ext cx="719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5449680" y="3313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"/>
                <p:cNvSpPr/>
                <p:nvPr/>
              </p:nvSpPr>
              <p:spPr>
                <a:xfrm>
                  <a:off x="6164280" y="331308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 flipV="1" rot="5400000">
                <a:off x="5719320" y="2809800"/>
                <a:ext cx="144720" cy="718920"/>
              </a:xfrm>
              <a:custGeom>
                <a:avLst/>
                <a:gdLst>
                  <a:gd name="textAreaLeft" fmla="*/ 92520 w 144720"/>
                  <a:gd name="textAreaRight" fmla="*/ 145080 w 144720"/>
                  <a:gd name="textAreaTop" fmla="*/ 18720 h 718920"/>
                  <a:gd name="textAreaBottom" fmla="*/ 70020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5329080" y="2374920"/>
                <a:ext cx="847800" cy="778680"/>
                <a:chOff x="5329080" y="2374920"/>
                <a:chExt cx="847800" cy="77868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5665680" y="2374920"/>
                  <a:ext cx="511200" cy="778680"/>
                  <a:chOff x="5665680" y="2374920"/>
                  <a:chExt cx="511200" cy="77868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5672160" y="273060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5665680" y="237492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5681520" y="279396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" name=""/>
                <p:cNvSpPr/>
                <p:nvPr/>
              </p:nvSpPr>
              <p:spPr>
                <a:xfrm>
                  <a:off x="5329080" y="2529000"/>
                  <a:ext cx="503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" name=""/>
            <p:cNvGrpSpPr/>
            <p:nvPr/>
          </p:nvGrpSpPr>
          <p:grpSpPr>
            <a:xfrm>
              <a:off x="2570040" y="1979640"/>
              <a:ext cx="2871360" cy="778680"/>
              <a:chOff x="2570040" y="1979640"/>
              <a:chExt cx="2871360" cy="7786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2570040" y="2407680"/>
                <a:ext cx="2871360" cy="350640"/>
                <a:chOff x="2570040" y="2407680"/>
                <a:chExt cx="2871360" cy="350640"/>
              </a:xfrm>
            </p:grpSpPr>
            <p:grpSp>
              <p:nvGrpSpPr>
                <p:cNvPr id="77" name=""/>
                <p:cNvGrpSpPr/>
                <p:nvPr/>
              </p:nvGrpSpPr>
              <p:grpSpPr>
                <a:xfrm>
                  <a:off x="2585520" y="2678040"/>
                  <a:ext cx="2855880" cy="80280"/>
                  <a:chOff x="2585520" y="2678040"/>
                  <a:chExt cx="2855880" cy="80280"/>
                </a:xfrm>
              </p:grpSpPr>
              <p:grpSp>
                <p:nvGrpSpPr>
                  <p:cNvPr id="78" name=""/>
                  <p:cNvGrpSpPr/>
                  <p:nvPr/>
                </p:nvGrpSpPr>
                <p:grpSpPr>
                  <a:xfrm>
                    <a:off x="2585520" y="2678040"/>
                    <a:ext cx="714960" cy="70920"/>
                    <a:chOff x="2585520" y="2678040"/>
                    <a:chExt cx="714960" cy="7092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2585520" y="2748960"/>
                      <a:ext cx="714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585520" y="267804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3295800" y="2678040"/>
                    <a:ext cx="714960" cy="70920"/>
                    <a:chOff x="3295800" y="2678040"/>
                    <a:chExt cx="714960" cy="7092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3295800" y="2748960"/>
                      <a:ext cx="714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3295800" y="267804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4006440" y="2678040"/>
                    <a:ext cx="714600" cy="70920"/>
                    <a:chOff x="4006440" y="2678040"/>
                    <a:chExt cx="714600" cy="7092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4006440" y="2748960"/>
                      <a:ext cx="714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4006440" y="267804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"/>
                  <p:cNvGrpSpPr/>
                  <p:nvPr/>
                </p:nvGrpSpPr>
                <p:grpSpPr>
                  <a:xfrm>
                    <a:off x="4721400" y="2678040"/>
                    <a:ext cx="714960" cy="70920"/>
                    <a:chOff x="4721400" y="2678040"/>
                    <a:chExt cx="714960" cy="7092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4721400" y="2748960"/>
                      <a:ext cx="714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4721400" y="267804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" name=""/>
                  <p:cNvSpPr/>
                  <p:nvPr/>
                </p:nvSpPr>
                <p:spPr>
                  <a:xfrm>
                    <a:off x="5441400" y="26870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V="1" rot="5400000">
                  <a:off x="3883680" y="1093320"/>
                  <a:ext cx="217080" cy="2844720"/>
                </a:xfrm>
                <a:custGeom>
                  <a:avLst/>
                  <a:gdLst>
                    <a:gd name="textAreaLeft" fmla="*/ 138600 w 217080"/>
                    <a:gd name="textAreaRight" fmla="*/ 217440 w 217080"/>
                    <a:gd name="textAreaTop" fmla="*/ 74160 h 2844720"/>
                    <a:gd name="textAreaBottom" fmla="*/ 2770560 h 2844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3541680" y="1979640"/>
                <a:ext cx="934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441760" y="2293920"/>
              <a:ext cx="0" cy="1440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062000" y="4095720"/>
            <a:ext cx="8072280" cy="1416600"/>
            <a:chOff x="1062000" y="4095720"/>
            <a:chExt cx="8072280" cy="1416600"/>
          </a:xfrm>
        </p:grpSpPr>
        <p:sp>
          <p:nvSpPr>
            <p:cNvPr id="95" name="TextBox 51"/>
            <p:cNvSpPr/>
            <p:nvPr/>
          </p:nvSpPr>
          <p:spPr>
            <a:xfrm>
              <a:off x="1062000" y="4267080"/>
              <a:ext cx="807228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怎样理解“男生人数比女生人数多     ”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男生人数与女生人数比较；女生人数是单位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把女生人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均分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男生人数是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份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248080" y="4095720"/>
              <a:ext cx="511200" cy="778680"/>
              <a:chOff x="5248080" y="4095720"/>
              <a:chExt cx="511200" cy="778680"/>
            </a:xfrm>
          </p:grpSpPr>
          <p:sp>
            <p:nvSpPr>
              <p:cNvPr id="97" name=""/>
              <p:cNvSpPr/>
              <p:nvPr/>
            </p:nvSpPr>
            <p:spPr>
              <a:xfrm>
                <a:off x="5254560" y="4451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248080" y="4095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63920" y="4514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1071720" y="5527800"/>
            <a:ext cx="8072280" cy="1087560"/>
            <a:chOff x="1071720" y="5527800"/>
            <a:chExt cx="8072280" cy="1087560"/>
          </a:xfrm>
        </p:grpSpPr>
        <p:sp>
          <p:nvSpPr>
            <p:cNvPr id="101" name="TextBox 51"/>
            <p:cNvSpPr/>
            <p:nvPr/>
          </p:nvSpPr>
          <p:spPr>
            <a:xfrm>
              <a:off x="1071720" y="5527800"/>
              <a:ext cx="80722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能说说男、女生人数之间有怎样的等量关系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女生人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男生人数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540240" y="5837040"/>
              <a:ext cx="511200" cy="778320"/>
              <a:chOff x="3540240" y="5837040"/>
              <a:chExt cx="511200" cy="778320"/>
            </a:xfrm>
          </p:grpSpPr>
          <p:sp>
            <p:nvSpPr>
              <p:cNvPr id="103" name=""/>
              <p:cNvSpPr/>
              <p:nvPr/>
            </p:nvSpPr>
            <p:spPr>
              <a:xfrm>
                <a:off x="3546720" y="61923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40240" y="58370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56080" y="62557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2560" y="4503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8560" y="4719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阅读与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4"/>
          <p:cNvSpPr/>
          <p:nvPr/>
        </p:nvSpPr>
        <p:spPr>
          <a:xfrm>
            <a:off x="642960" y="3181320"/>
            <a:ext cx="100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6"/>
          <p:cNvSpPr/>
          <p:nvPr/>
        </p:nvSpPr>
        <p:spPr>
          <a:xfrm>
            <a:off x="1428840" y="3205080"/>
            <a:ext cx="7429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题目中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6"/>
          <p:cNvSpPr/>
          <p:nvPr/>
        </p:nvSpPr>
        <p:spPr>
          <a:xfrm>
            <a:off x="1428840" y="5229360"/>
            <a:ext cx="7429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道题怎样解答，请你根据题意先画出线段图，再找出爸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和小明体重之间的等量关系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最后列方程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97040" y="1989000"/>
            <a:ext cx="8321400" cy="1106640"/>
            <a:chOff x="797040" y="1989000"/>
            <a:chExt cx="8321400" cy="1106640"/>
          </a:xfrm>
        </p:grpSpPr>
        <p:sp>
          <p:nvSpPr>
            <p:cNvPr id="114" name="TextBox 31"/>
            <p:cNvSpPr/>
            <p:nvPr/>
          </p:nvSpPr>
          <p:spPr>
            <a:xfrm>
              <a:off x="797040" y="2124000"/>
              <a:ext cx="83214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明的体重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g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他的体重比爸爸的体重轻      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明爸爸的体重是多少千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715160" y="1989000"/>
              <a:ext cx="504360" cy="778680"/>
              <a:chOff x="7715160" y="1989000"/>
              <a:chExt cx="504360" cy="778680"/>
            </a:xfrm>
          </p:grpSpPr>
          <p:sp>
            <p:nvSpPr>
              <p:cNvPr id="116" name=""/>
              <p:cNvSpPr/>
              <p:nvPr/>
            </p:nvSpPr>
            <p:spPr>
              <a:xfrm>
                <a:off x="7715160" y="234468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803720" y="198900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81400" y="24080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1428840" y="3390840"/>
            <a:ext cx="7429320" cy="2015280"/>
            <a:chOff x="1428840" y="3390840"/>
            <a:chExt cx="7429320" cy="2015280"/>
          </a:xfrm>
        </p:grpSpPr>
        <p:sp>
          <p:nvSpPr>
            <p:cNvPr id="120" name="TextBox 36"/>
            <p:cNvSpPr/>
            <p:nvPr/>
          </p:nvSpPr>
          <p:spPr>
            <a:xfrm>
              <a:off x="1428840" y="3573360"/>
              <a:ext cx="742932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怎样理解“小明的体重比爸爸的体重轻       ”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小明体重和爸爸体重在比较；爸爸的体重是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把爸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平均分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小明的体重就是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份；小明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是爸爸体重的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）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17840" y="3390840"/>
              <a:ext cx="504720" cy="778680"/>
              <a:chOff x="6117840" y="3390840"/>
              <a:chExt cx="504720" cy="778680"/>
            </a:xfrm>
          </p:grpSpPr>
          <p:sp>
            <p:nvSpPr>
              <p:cNvPr id="122" name=""/>
              <p:cNvSpPr/>
              <p:nvPr/>
            </p:nvSpPr>
            <p:spPr>
              <a:xfrm>
                <a:off x="6117840" y="3746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206760" y="3390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184440" y="3809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427280" y="4627440"/>
              <a:ext cx="504360" cy="778680"/>
              <a:chOff x="4427280" y="4627440"/>
              <a:chExt cx="504360" cy="778680"/>
            </a:xfrm>
          </p:grpSpPr>
          <p:sp>
            <p:nvSpPr>
              <p:cNvPr id="126" name=""/>
              <p:cNvSpPr/>
              <p:nvPr/>
            </p:nvSpPr>
            <p:spPr>
              <a:xfrm>
                <a:off x="4427280" y="49831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15840" y="462744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93520" y="50464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2560" y="4503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8560" y="4719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57120" y="148608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3500280" y="2087640"/>
            <a:ext cx="5572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爸爸的体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明比爸爸轻的部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明的体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0960" y="2286000"/>
            <a:ext cx="4289400" cy="2391120"/>
            <a:chOff x="210960" y="2286000"/>
            <a:chExt cx="4289400" cy="2391120"/>
          </a:xfrm>
        </p:grpSpPr>
        <p:grpSp>
          <p:nvGrpSpPr>
            <p:cNvPr id="135" name=""/>
            <p:cNvGrpSpPr/>
            <p:nvPr/>
          </p:nvGrpSpPr>
          <p:grpSpPr>
            <a:xfrm>
              <a:off x="210960" y="2286000"/>
              <a:ext cx="4289400" cy="2391120"/>
              <a:chOff x="210960" y="2286000"/>
              <a:chExt cx="4289400" cy="23911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210960" y="2286000"/>
                <a:ext cx="4289400" cy="2391120"/>
                <a:chOff x="210960" y="2286000"/>
                <a:chExt cx="4289400" cy="239112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210960" y="2286000"/>
                  <a:ext cx="4289400" cy="2391120"/>
                  <a:chOff x="210960" y="2286000"/>
                  <a:chExt cx="4289400" cy="2391120"/>
                </a:xfrm>
              </p:grpSpPr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137960" y="3540240"/>
                    <a:ext cx="3216240" cy="73080"/>
                    <a:chOff x="1137960" y="3540240"/>
                    <a:chExt cx="3216240" cy="73080"/>
                  </a:xfrm>
                </p:grpSpPr>
                <p:sp>
                  <p:nvSpPr>
                    <p:cNvPr id="139" name="直接连接符 27"/>
                    <p:cNvSpPr/>
                    <p:nvPr/>
                  </p:nvSpPr>
                  <p:spPr>
                    <a:xfrm>
                      <a:off x="1138680" y="3611880"/>
                      <a:ext cx="321552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直接连接符 31"/>
                    <p:cNvSpPr/>
                    <p:nvPr/>
                  </p:nvSpPr>
                  <p:spPr>
                    <a:xfrm flipH="1">
                      <a:off x="113796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直接连接符 35"/>
                    <p:cNvSpPr/>
                    <p:nvPr/>
                  </p:nvSpPr>
                  <p:spPr>
                    <a:xfrm flipH="1">
                      <a:off x="135216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直接连接符 36"/>
                    <p:cNvSpPr/>
                    <p:nvPr/>
                  </p:nvSpPr>
                  <p:spPr>
                    <a:xfrm flipH="1">
                      <a:off x="15667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直接连接符 37"/>
                    <p:cNvSpPr/>
                    <p:nvPr/>
                  </p:nvSpPr>
                  <p:spPr>
                    <a:xfrm flipH="1">
                      <a:off x="17809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直接连接符 38"/>
                    <p:cNvSpPr/>
                    <p:nvPr/>
                  </p:nvSpPr>
                  <p:spPr>
                    <a:xfrm flipH="1">
                      <a:off x="199548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直接连接符 39"/>
                    <p:cNvSpPr/>
                    <p:nvPr/>
                  </p:nvSpPr>
                  <p:spPr>
                    <a:xfrm flipH="1">
                      <a:off x="220968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直接连接符 40"/>
                    <p:cNvSpPr/>
                    <p:nvPr/>
                  </p:nvSpPr>
                  <p:spPr>
                    <a:xfrm flipH="1">
                      <a:off x="242424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直接连接符 41"/>
                    <p:cNvSpPr/>
                    <p:nvPr/>
                  </p:nvSpPr>
                  <p:spPr>
                    <a:xfrm flipH="1">
                      <a:off x="263844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直接连接符 42"/>
                    <p:cNvSpPr/>
                    <p:nvPr/>
                  </p:nvSpPr>
                  <p:spPr>
                    <a:xfrm flipH="1">
                      <a:off x="285300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直接连接符 43"/>
                    <p:cNvSpPr/>
                    <p:nvPr/>
                  </p:nvSpPr>
                  <p:spPr>
                    <a:xfrm flipH="1">
                      <a:off x="306720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直接连接符 44"/>
                    <p:cNvSpPr/>
                    <p:nvPr/>
                  </p:nvSpPr>
                  <p:spPr>
                    <a:xfrm flipH="1">
                      <a:off x="328176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直接连接符 45"/>
                    <p:cNvSpPr/>
                    <p:nvPr/>
                  </p:nvSpPr>
                  <p:spPr>
                    <a:xfrm flipH="1">
                      <a:off x="349596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直接连接符 46"/>
                    <p:cNvSpPr/>
                    <p:nvPr/>
                  </p:nvSpPr>
                  <p:spPr>
                    <a:xfrm flipH="1">
                      <a:off x="371052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直接连接符 47"/>
                    <p:cNvSpPr/>
                    <p:nvPr/>
                  </p:nvSpPr>
                  <p:spPr>
                    <a:xfrm flipH="1">
                      <a:off x="392472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直接连接符 48"/>
                    <p:cNvSpPr/>
                    <p:nvPr/>
                  </p:nvSpPr>
                  <p:spPr>
                    <a:xfrm flipH="1">
                      <a:off x="413928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直接连接符 49"/>
                    <p:cNvSpPr/>
                    <p:nvPr/>
                  </p:nvSpPr>
                  <p:spPr>
                    <a:xfrm flipH="1">
                      <a:off x="435348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TextBox 34"/>
                  <p:cNvSpPr/>
                  <p:nvPr/>
                </p:nvSpPr>
                <p:spPr>
                  <a:xfrm>
                    <a:off x="210960" y="3929040"/>
                    <a:ext cx="1000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小明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210960" y="2286000"/>
                    <a:ext cx="4289400" cy="2391120"/>
                    <a:chOff x="210960" y="2286000"/>
                    <a:chExt cx="4289400" cy="2391120"/>
                  </a:xfrm>
                </p:grpSpPr>
                <p:pic>
                  <p:nvPicPr>
                    <p:cNvPr id="158" name="右大括号 7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2932200"/>
                      <a:ext cx="3260520" cy="18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59" name="右大括号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00" y="4194000"/>
                      <a:ext cx="155412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0" name="TextBox 34"/>
                    <p:cNvSpPr/>
                    <p:nvPr/>
                  </p:nvSpPr>
                  <p:spPr>
                    <a:xfrm>
                      <a:off x="210960" y="2286000"/>
                      <a:ext cx="16239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预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TextBox 34"/>
                    <p:cNvSpPr/>
                    <p:nvPr/>
                  </p:nvSpPr>
                  <p:spPr>
                    <a:xfrm>
                      <a:off x="244440" y="3341520"/>
                      <a:ext cx="9666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爸爸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TextBox 74"/>
                    <p:cNvSpPr/>
                    <p:nvPr/>
                  </p:nvSpPr>
                  <p:spPr>
                    <a:xfrm>
                      <a:off x="2282760" y="2585880"/>
                      <a:ext cx="92844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163" name="右大括号 7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09640" y="3382920"/>
                      <a:ext cx="1773360" cy="18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4" name="TextBox 79"/>
                    <p:cNvSpPr/>
                    <p:nvPr/>
                  </p:nvSpPr>
                  <p:spPr>
                    <a:xfrm>
                      <a:off x="2571480" y="3127320"/>
                      <a:ext cx="19288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明的体重比爸爸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TextBox 81"/>
                    <p:cNvSpPr/>
                    <p:nvPr/>
                  </p:nvSpPr>
                  <p:spPr>
                    <a:xfrm>
                      <a:off x="2639880" y="3797280"/>
                      <a:ext cx="1143000" cy="349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？千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TextBox 83"/>
                    <p:cNvSpPr/>
                    <p:nvPr/>
                  </p:nvSpPr>
                  <p:spPr>
                    <a:xfrm>
                      <a:off x="853920" y="3755880"/>
                      <a:ext cx="19288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是爸爸体重的几分之几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TextBox 85"/>
                    <p:cNvSpPr/>
                    <p:nvPr/>
                  </p:nvSpPr>
                  <p:spPr>
                    <a:xfrm>
                      <a:off x="1568160" y="4327560"/>
                      <a:ext cx="1143000" cy="349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千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68" name="右大括号 8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26800" y="3657600"/>
                  <a:ext cx="326232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47840" y="3068640"/>
                  <a:ext cx="235080" cy="382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" name="椭圆 77"/>
              <p:cNvSpPr/>
              <p:nvPr/>
            </p:nvSpPr>
            <p:spPr>
              <a:xfrm>
                <a:off x="2639880" y="3255840"/>
                <a:ext cx="1714320" cy="6429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>
                <a:off x="2605680" y="3232080"/>
                <a:ext cx="9720" cy="12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" name="右大括号 82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00" y="3962520"/>
                <a:ext cx="1554120" cy="22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1139760" y="4113360"/>
              <a:ext cx="1500120" cy="71280"/>
              <a:chOff x="1139760" y="4113360"/>
              <a:chExt cx="1500120" cy="71280"/>
            </a:xfrm>
          </p:grpSpPr>
          <p:sp>
            <p:nvSpPr>
              <p:cNvPr id="174" name="直接连接符 61"/>
              <p:cNvSpPr/>
              <p:nvPr/>
            </p:nvSpPr>
            <p:spPr>
              <a:xfrm>
                <a:off x="1139760" y="4183200"/>
                <a:ext cx="1499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接连接符 62"/>
              <p:cNvSpPr/>
              <p:nvPr/>
            </p:nvSpPr>
            <p:spPr>
              <a:xfrm flipH="1">
                <a:off x="11397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63"/>
              <p:cNvSpPr/>
              <p:nvPr/>
            </p:nvSpPr>
            <p:spPr>
              <a:xfrm flipH="1">
                <a:off x="13539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64"/>
              <p:cNvSpPr/>
              <p:nvPr/>
            </p:nvSpPr>
            <p:spPr>
              <a:xfrm flipH="1">
                <a:off x="15681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65"/>
              <p:cNvSpPr/>
              <p:nvPr/>
            </p:nvSpPr>
            <p:spPr>
              <a:xfrm flipH="1">
                <a:off x="17823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直接连接符 66"/>
              <p:cNvSpPr/>
              <p:nvPr/>
            </p:nvSpPr>
            <p:spPr>
              <a:xfrm flipH="1">
                <a:off x="19965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67"/>
              <p:cNvSpPr/>
              <p:nvPr/>
            </p:nvSpPr>
            <p:spPr>
              <a:xfrm flipH="1">
                <a:off x="22107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接连接符 68"/>
              <p:cNvSpPr/>
              <p:nvPr/>
            </p:nvSpPr>
            <p:spPr>
              <a:xfrm flipH="1">
                <a:off x="2424960" y="412704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直接连接符 69"/>
              <p:cNvSpPr/>
              <p:nvPr/>
            </p:nvSpPr>
            <p:spPr>
              <a:xfrm flipH="1">
                <a:off x="2639160" y="412704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Box 135"/>
          <p:cNvSpPr/>
          <p:nvPr/>
        </p:nvSpPr>
        <p:spPr>
          <a:xfrm>
            <a:off x="247680" y="4884840"/>
            <a:ext cx="140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6"/>
          <p:cNvSpPr/>
          <p:nvPr/>
        </p:nvSpPr>
        <p:spPr>
          <a:xfrm>
            <a:off x="1000080" y="4896000"/>
            <a:ext cx="7388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们能借助线段图理解这个等量关系式和方程的意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6"/>
          <p:cNvSpPr/>
          <p:nvPr/>
        </p:nvSpPr>
        <p:spPr>
          <a:xfrm>
            <a:off x="1000080" y="5319720"/>
            <a:ext cx="6451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中哪部分是小明体重比爸爸轻的部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6"/>
          <p:cNvSpPr/>
          <p:nvPr/>
        </p:nvSpPr>
        <p:spPr>
          <a:xfrm>
            <a:off x="1000080" y="5786280"/>
            <a:ext cx="551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是怎样求小明体重比爸爸轻的部分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714920" y="2500200"/>
            <a:ext cx="4143240" cy="2287800"/>
            <a:chOff x="4714920" y="2500200"/>
            <a:chExt cx="4143240" cy="2287800"/>
          </a:xfrm>
        </p:grpSpPr>
        <p:sp>
          <p:nvSpPr>
            <p:cNvPr id="188" name="TextBox 14"/>
            <p:cNvSpPr/>
            <p:nvPr/>
          </p:nvSpPr>
          <p:spPr>
            <a:xfrm>
              <a:off x="4714920" y="2500200"/>
              <a:ext cx="414324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：设爸爸的体重为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640480" y="2770200"/>
              <a:ext cx="504720" cy="778320"/>
              <a:chOff x="5640480" y="2770200"/>
              <a:chExt cx="504720" cy="778320"/>
            </a:xfrm>
          </p:grpSpPr>
          <p:sp>
            <p:nvSpPr>
              <p:cNvPr id="190" name=""/>
              <p:cNvSpPr/>
              <p:nvPr/>
            </p:nvSpPr>
            <p:spPr>
              <a:xfrm>
                <a:off x="5640480" y="3125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29400" y="2770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07080" y="3188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657760" y="3359160"/>
              <a:ext cx="504720" cy="778320"/>
              <a:chOff x="5657760" y="3359160"/>
              <a:chExt cx="504720" cy="778320"/>
            </a:xfrm>
          </p:grpSpPr>
          <p:sp>
            <p:nvSpPr>
              <p:cNvPr id="194" name=""/>
              <p:cNvSpPr/>
              <p:nvPr/>
            </p:nvSpPr>
            <p:spPr>
              <a:xfrm>
                <a:off x="5657760" y="37144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46680" y="3359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24360" y="3777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015320" y="3849480"/>
              <a:ext cx="586800" cy="778680"/>
              <a:chOff x="7015320" y="3849480"/>
              <a:chExt cx="586800" cy="778680"/>
            </a:xfrm>
          </p:grpSpPr>
          <p:sp>
            <p:nvSpPr>
              <p:cNvPr id="198" name=""/>
              <p:cNvSpPr/>
              <p:nvPr/>
            </p:nvSpPr>
            <p:spPr>
              <a:xfrm>
                <a:off x="7097400" y="42051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15320" y="3849480"/>
                <a:ext cx="580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78320" y="42685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52560" y="4503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8560" y="4719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47760" y="266760"/>
            <a:ext cx="8410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14200" y="2286000"/>
            <a:ext cx="4286160" cy="2362320"/>
            <a:chOff x="214200" y="2286000"/>
            <a:chExt cx="4286160" cy="2362320"/>
          </a:xfrm>
        </p:grpSpPr>
        <p:grpSp>
          <p:nvGrpSpPr>
            <p:cNvPr id="208" name=""/>
            <p:cNvGrpSpPr/>
            <p:nvPr/>
          </p:nvGrpSpPr>
          <p:grpSpPr>
            <a:xfrm>
              <a:off x="214200" y="2286000"/>
              <a:ext cx="4286160" cy="2362320"/>
              <a:chOff x="214200" y="2286000"/>
              <a:chExt cx="4286160" cy="236232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214200" y="2286000"/>
                <a:ext cx="4286160" cy="2362320"/>
                <a:chOff x="214200" y="2286000"/>
                <a:chExt cx="4286160" cy="2362320"/>
              </a:xfrm>
            </p:grpSpPr>
            <p:sp>
              <p:nvSpPr>
                <p:cNvPr id="210" name="TextBox 34"/>
                <p:cNvSpPr/>
                <p:nvPr/>
              </p:nvSpPr>
              <p:spPr>
                <a:xfrm>
                  <a:off x="214200" y="2286000"/>
                  <a:ext cx="14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预设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214200" y="2571840"/>
                  <a:ext cx="4286160" cy="2076480"/>
                  <a:chOff x="214200" y="2571840"/>
                  <a:chExt cx="4286160" cy="2076480"/>
                </a:xfrm>
              </p:grpSpPr>
              <p:pic>
                <p:nvPicPr>
                  <p:cNvPr id="212" name="右大括号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919240"/>
                    <a:ext cx="326052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" name="右大括号 1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2120" y="4205160"/>
                    <a:ext cx="1548000" cy="21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TextBox 115"/>
                  <p:cNvSpPr/>
                  <p:nvPr/>
                </p:nvSpPr>
                <p:spPr>
                  <a:xfrm>
                    <a:off x="2571480" y="3098520"/>
                    <a:ext cx="1928880" cy="312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2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小明的体重比爸爸轻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5720" y="3058920"/>
                    <a:ext cx="23328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6" name="TextBox 117"/>
                  <p:cNvSpPr/>
                  <p:nvPr/>
                </p:nvSpPr>
                <p:spPr>
                  <a:xfrm>
                    <a:off x="2639880" y="3768480"/>
                    <a:ext cx="1143000" cy="349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？千克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TextBox 119"/>
                  <p:cNvSpPr/>
                  <p:nvPr/>
                </p:nvSpPr>
                <p:spPr>
                  <a:xfrm>
                    <a:off x="1589040" y="4298760"/>
                    <a:ext cx="1143000" cy="349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5</a:t>
                    </a: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千克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Box 34"/>
                  <p:cNvSpPr/>
                  <p:nvPr/>
                </p:nvSpPr>
                <p:spPr>
                  <a:xfrm>
                    <a:off x="247680" y="3330360"/>
                    <a:ext cx="9666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爸爸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TextBox 34"/>
                  <p:cNvSpPr/>
                  <p:nvPr/>
                </p:nvSpPr>
                <p:spPr>
                  <a:xfrm>
                    <a:off x="214200" y="3917520"/>
                    <a:ext cx="1000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小明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Box 123"/>
                  <p:cNvSpPr/>
                  <p:nvPr/>
                </p:nvSpPr>
                <p:spPr>
                  <a:xfrm>
                    <a:off x="2300040" y="2571840"/>
                    <a:ext cx="9288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21" name="右大括号 1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22120" y="3889080"/>
                    <a:ext cx="1554120" cy="22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2" name="右大括号 1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4680" y="3369960"/>
                    <a:ext cx="177480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3" name="椭圆 130"/>
                  <p:cNvSpPr/>
                  <p:nvPr/>
                </p:nvSpPr>
                <p:spPr>
                  <a:xfrm>
                    <a:off x="1128600" y="3244680"/>
                    <a:ext cx="1500120" cy="64260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1139760" y="3511440"/>
                <a:ext cx="3214800" cy="73080"/>
                <a:chOff x="1139760" y="3511440"/>
                <a:chExt cx="3214800" cy="73080"/>
              </a:xfrm>
            </p:grpSpPr>
            <p:sp>
              <p:nvSpPr>
                <p:cNvPr id="225" name="直接连接符 87"/>
                <p:cNvSpPr/>
                <p:nvPr/>
              </p:nvSpPr>
              <p:spPr>
                <a:xfrm>
                  <a:off x="1140480" y="3583080"/>
                  <a:ext cx="32140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直接连接符 88"/>
                <p:cNvSpPr/>
                <p:nvPr/>
              </p:nvSpPr>
              <p:spPr>
                <a:xfrm flipH="1">
                  <a:off x="11397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直接连接符 89"/>
                <p:cNvSpPr/>
                <p:nvPr/>
              </p:nvSpPr>
              <p:spPr>
                <a:xfrm flipH="1">
                  <a:off x="13539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直接连接符 90"/>
                <p:cNvSpPr/>
                <p:nvPr/>
              </p:nvSpPr>
              <p:spPr>
                <a:xfrm flipH="1">
                  <a:off x="15681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直接连接符 91"/>
                <p:cNvSpPr/>
                <p:nvPr/>
              </p:nvSpPr>
              <p:spPr>
                <a:xfrm flipH="1">
                  <a:off x="17823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直接连接符 92"/>
                <p:cNvSpPr/>
                <p:nvPr/>
              </p:nvSpPr>
              <p:spPr>
                <a:xfrm flipH="1">
                  <a:off x="19969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直接连接符 93"/>
                <p:cNvSpPr/>
                <p:nvPr/>
              </p:nvSpPr>
              <p:spPr>
                <a:xfrm flipH="1">
                  <a:off x="22111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直接连接符 94"/>
                <p:cNvSpPr/>
                <p:nvPr/>
              </p:nvSpPr>
              <p:spPr>
                <a:xfrm flipH="1">
                  <a:off x="24253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直接连接符 95"/>
                <p:cNvSpPr/>
                <p:nvPr/>
              </p:nvSpPr>
              <p:spPr>
                <a:xfrm flipH="1">
                  <a:off x="26395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直接连接符 96"/>
                <p:cNvSpPr/>
                <p:nvPr/>
              </p:nvSpPr>
              <p:spPr>
                <a:xfrm flipH="1">
                  <a:off x="28540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直接连接符 97"/>
                <p:cNvSpPr/>
                <p:nvPr/>
              </p:nvSpPr>
              <p:spPr>
                <a:xfrm flipH="1">
                  <a:off x="30682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直接连接符 98"/>
                <p:cNvSpPr/>
                <p:nvPr/>
              </p:nvSpPr>
              <p:spPr>
                <a:xfrm flipH="1">
                  <a:off x="32824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直接连接符 99"/>
                <p:cNvSpPr/>
                <p:nvPr/>
              </p:nvSpPr>
              <p:spPr>
                <a:xfrm flipH="1">
                  <a:off x="34966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直接连接符 100"/>
                <p:cNvSpPr/>
                <p:nvPr/>
              </p:nvSpPr>
              <p:spPr>
                <a:xfrm flipH="1">
                  <a:off x="37112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直接连接符 101"/>
                <p:cNvSpPr/>
                <p:nvPr/>
              </p:nvSpPr>
              <p:spPr>
                <a:xfrm flipH="1">
                  <a:off x="39254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直接连接符 102"/>
                <p:cNvSpPr/>
                <p:nvPr/>
              </p:nvSpPr>
              <p:spPr>
                <a:xfrm flipH="1">
                  <a:off x="41396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直接连接符 103"/>
                <p:cNvSpPr/>
                <p:nvPr/>
              </p:nvSpPr>
              <p:spPr>
                <a:xfrm flipH="1">
                  <a:off x="43538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139760" y="4098960"/>
                <a:ext cx="1500120" cy="71280"/>
                <a:chOff x="1139760" y="4098960"/>
                <a:chExt cx="1500120" cy="71280"/>
              </a:xfrm>
            </p:grpSpPr>
            <p:sp>
              <p:nvSpPr>
                <p:cNvPr id="243" name="直接连接符 105"/>
                <p:cNvSpPr/>
                <p:nvPr/>
              </p:nvSpPr>
              <p:spPr>
                <a:xfrm>
                  <a:off x="1139760" y="4168800"/>
                  <a:ext cx="149940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直接连接符 106"/>
                <p:cNvSpPr/>
                <p:nvPr/>
              </p:nvSpPr>
              <p:spPr>
                <a:xfrm flipH="1">
                  <a:off x="11397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直接连接符 107"/>
                <p:cNvSpPr/>
                <p:nvPr/>
              </p:nvSpPr>
              <p:spPr>
                <a:xfrm flipH="1">
                  <a:off x="13539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直接连接符 108"/>
                <p:cNvSpPr/>
                <p:nvPr/>
              </p:nvSpPr>
              <p:spPr>
                <a:xfrm flipH="1">
                  <a:off x="15681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直接连接符 109"/>
                <p:cNvSpPr/>
                <p:nvPr/>
              </p:nvSpPr>
              <p:spPr>
                <a:xfrm flipH="1">
                  <a:off x="17823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直接连接符 110"/>
                <p:cNvSpPr/>
                <p:nvPr/>
              </p:nvSpPr>
              <p:spPr>
                <a:xfrm flipH="1">
                  <a:off x="19965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直接连接符 111"/>
                <p:cNvSpPr/>
                <p:nvPr/>
              </p:nvSpPr>
              <p:spPr>
                <a:xfrm flipH="1">
                  <a:off x="22107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直接连接符 112"/>
                <p:cNvSpPr/>
                <p:nvPr/>
              </p:nvSpPr>
              <p:spPr>
                <a:xfrm flipH="1">
                  <a:off x="2424960" y="411264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直接连接符 113"/>
                <p:cNvSpPr/>
                <p:nvPr/>
              </p:nvSpPr>
              <p:spPr>
                <a:xfrm flipH="1">
                  <a:off x="2639160" y="411264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Box 118"/>
              <p:cNvSpPr/>
              <p:nvPr/>
            </p:nvSpPr>
            <p:spPr>
              <a:xfrm>
                <a:off x="853920" y="3728880"/>
                <a:ext cx="1928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是爸爸体重的几分之几？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3" name="右大括号 127" descr=""/>
            <p:cNvPicPr/>
            <p:nvPr/>
          </p:nvPicPr>
          <p:blipFill>
            <a:blip r:embed="rId7"/>
            <a:stretch/>
          </p:blipFill>
          <p:spPr>
            <a:xfrm>
              <a:off x="1133280" y="3664080"/>
              <a:ext cx="32562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直接连接符 129"/>
            <p:cNvSpPr/>
            <p:nvPr/>
          </p:nvSpPr>
          <p:spPr>
            <a:xfrm>
              <a:off x="2635200" y="3232080"/>
              <a:ext cx="9360" cy="1252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Box 104"/>
          <p:cNvSpPr/>
          <p:nvPr/>
        </p:nvSpPr>
        <p:spPr>
          <a:xfrm>
            <a:off x="214200" y="4896000"/>
            <a:ext cx="140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4"/>
          <p:cNvSpPr/>
          <p:nvPr/>
        </p:nvSpPr>
        <p:spPr>
          <a:xfrm>
            <a:off x="1000080" y="4888080"/>
            <a:ext cx="742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们能借助线段图理解这个数量关系式和方程的意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14"/>
          <p:cNvSpPr/>
          <p:nvPr/>
        </p:nvSpPr>
        <p:spPr>
          <a:xfrm>
            <a:off x="1000080" y="5302080"/>
            <a:ext cx="742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中小明的体重相当于爸爸体重的哪一部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4"/>
          <p:cNvSpPr/>
          <p:nvPr/>
        </p:nvSpPr>
        <p:spPr>
          <a:xfrm>
            <a:off x="1000080" y="5730840"/>
            <a:ext cx="742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明的体重相当于爸爸体重的几分之几？你是怎样得到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357800" y="1844640"/>
            <a:ext cx="4786200" cy="778680"/>
            <a:chOff x="4357800" y="1844640"/>
            <a:chExt cx="4786200" cy="778680"/>
          </a:xfrm>
        </p:grpSpPr>
        <p:sp>
          <p:nvSpPr>
            <p:cNvPr id="260" name="TextBox 28"/>
            <p:cNvSpPr/>
            <p:nvPr/>
          </p:nvSpPr>
          <p:spPr>
            <a:xfrm>
              <a:off x="4357800" y="2011320"/>
              <a:ext cx="4786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爸爸的体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明的体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6670800" y="1844640"/>
              <a:ext cx="504720" cy="778680"/>
              <a:chOff x="6670800" y="1844640"/>
              <a:chExt cx="504720" cy="778680"/>
            </a:xfrm>
          </p:grpSpPr>
          <p:sp>
            <p:nvSpPr>
              <p:cNvPr id="262" name=""/>
              <p:cNvSpPr/>
              <p:nvPr/>
            </p:nvSpPr>
            <p:spPr>
              <a:xfrm>
                <a:off x="6670800" y="2200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759720" y="1844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737400" y="2263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4857840" y="2471760"/>
            <a:ext cx="4143240" cy="2068920"/>
            <a:chOff x="4857840" y="2471760"/>
            <a:chExt cx="4143240" cy="2068920"/>
          </a:xfrm>
        </p:grpSpPr>
        <p:sp>
          <p:nvSpPr>
            <p:cNvPr id="266" name="TextBox 28"/>
            <p:cNvSpPr/>
            <p:nvPr/>
          </p:nvSpPr>
          <p:spPr>
            <a:xfrm>
              <a:off x="4857840" y="2471760"/>
              <a:ext cx="4143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：设爸爸的体重为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012000" y="2741760"/>
              <a:ext cx="504720" cy="778320"/>
              <a:chOff x="6012000" y="2741760"/>
              <a:chExt cx="504720" cy="778320"/>
            </a:xfrm>
          </p:grpSpPr>
          <p:sp>
            <p:nvSpPr>
              <p:cNvPr id="268" name=""/>
              <p:cNvSpPr/>
              <p:nvPr/>
            </p:nvSpPr>
            <p:spPr>
              <a:xfrm>
                <a:off x="6012000" y="30970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00920" y="27417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78600" y="3160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469120" y="3213000"/>
              <a:ext cx="504720" cy="778680"/>
              <a:chOff x="5469120" y="3213000"/>
              <a:chExt cx="504720" cy="778680"/>
            </a:xfrm>
          </p:grpSpPr>
          <p:sp>
            <p:nvSpPr>
              <p:cNvPr id="272" name=""/>
              <p:cNvSpPr/>
              <p:nvPr/>
            </p:nvSpPr>
            <p:spPr>
              <a:xfrm>
                <a:off x="5469120" y="3568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58040" y="3213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35720" y="3632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877080" y="3660840"/>
              <a:ext cx="587520" cy="778680"/>
              <a:chOff x="6877080" y="3660840"/>
              <a:chExt cx="587520" cy="778680"/>
            </a:xfrm>
          </p:grpSpPr>
          <p:sp>
            <p:nvSpPr>
              <p:cNvPr id="276" name=""/>
              <p:cNvSpPr/>
              <p:nvPr/>
            </p:nvSpPr>
            <p:spPr>
              <a:xfrm>
                <a:off x="6959520" y="401652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77080" y="3660840"/>
                <a:ext cx="581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40440" y="4079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4"/>
          <p:cNvSpPr/>
          <p:nvPr/>
        </p:nvSpPr>
        <p:spPr>
          <a:xfrm>
            <a:off x="214200" y="5329080"/>
            <a:ext cx="118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4"/>
          <p:cNvSpPr/>
          <p:nvPr/>
        </p:nvSpPr>
        <p:spPr>
          <a:xfrm>
            <a:off x="928800" y="5343480"/>
            <a:ext cx="78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虽然两种解法不同，但是都是依据分数乘法的意义找到等量关系，用方程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84320" y="1892160"/>
            <a:ext cx="9245520" cy="3213360"/>
            <a:chOff x="184320" y="1892160"/>
            <a:chExt cx="9245520" cy="3213360"/>
          </a:xfrm>
        </p:grpSpPr>
        <p:grpSp>
          <p:nvGrpSpPr>
            <p:cNvPr id="284" name=""/>
            <p:cNvGrpSpPr/>
            <p:nvPr/>
          </p:nvGrpSpPr>
          <p:grpSpPr>
            <a:xfrm>
              <a:off x="184320" y="1892160"/>
              <a:ext cx="9245520" cy="3213360"/>
              <a:chOff x="184320" y="1892160"/>
              <a:chExt cx="9245520" cy="3213360"/>
            </a:xfrm>
          </p:grpSpPr>
          <p:sp>
            <p:nvSpPr>
              <p:cNvPr id="285" name="TextBox 14"/>
              <p:cNvSpPr/>
              <p:nvPr/>
            </p:nvSpPr>
            <p:spPr>
              <a:xfrm>
                <a:off x="184320" y="2036520"/>
                <a:ext cx="557208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爸爸的体重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小明比爸爸轻的部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小明的体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694080" y="2817720"/>
                <a:ext cx="4143240" cy="2287800"/>
                <a:chOff x="694080" y="2817720"/>
                <a:chExt cx="4143240" cy="2287800"/>
              </a:xfrm>
            </p:grpSpPr>
            <p:sp>
              <p:nvSpPr>
                <p:cNvPr id="287" name="TextBox 14"/>
                <p:cNvSpPr/>
                <p:nvPr/>
              </p:nvSpPr>
              <p:spPr>
                <a:xfrm>
                  <a:off x="694080" y="2817720"/>
                  <a:ext cx="41432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解：设爸爸的体重为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kg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－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     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1619640" y="3087720"/>
                  <a:ext cx="504720" cy="778320"/>
                  <a:chOff x="1619640" y="3087720"/>
                  <a:chExt cx="504720" cy="7783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619640" y="344304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708560" y="308772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686240" y="35064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1636920" y="3676680"/>
                  <a:ext cx="504720" cy="778320"/>
                  <a:chOff x="1636920" y="3676680"/>
                  <a:chExt cx="504720" cy="7783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636920" y="403200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725840" y="367668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1703520" y="409536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878560" y="4167000"/>
                  <a:ext cx="586800" cy="778680"/>
                  <a:chOff x="2878560" y="4167000"/>
                  <a:chExt cx="586800" cy="7786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2960640" y="452268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878560" y="4167000"/>
                    <a:ext cx="5806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941560" y="458604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4643640" y="1892160"/>
                <a:ext cx="4786200" cy="778680"/>
                <a:chOff x="4643640" y="1892160"/>
                <a:chExt cx="4786200" cy="778680"/>
              </a:xfrm>
            </p:grpSpPr>
            <p:sp>
              <p:nvSpPr>
                <p:cNvPr id="301" name="TextBox 28"/>
                <p:cNvSpPr/>
                <p:nvPr/>
              </p:nvSpPr>
              <p:spPr>
                <a:xfrm>
                  <a:off x="4643640" y="2058840"/>
                  <a:ext cx="4786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爸爸的体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）＝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小明的体重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6877080" y="1892160"/>
                  <a:ext cx="504720" cy="778680"/>
                  <a:chOff x="6877080" y="1892160"/>
                  <a:chExt cx="504720" cy="7786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6877080" y="224784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6966000" y="18921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943680" y="23112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4964400" y="2835000"/>
                <a:ext cx="4143240" cy="2068920"/>
                <a:chOff x="4964400" y="2835000"/>
                <a:chExt cx="4143240" cy="2068920"/>
              </a:xfrm>
            </p:grpSpPr>
            <p:sp>
              <p:nvSpPr>
                <p:cNvPr id="307" name="TextBox 28"/>
                <p:cNvSpPr/>
                <p:nvPr/>
              </p:nvSpPr>
              <p:spPr>
                <a:xfrm>
                  <a:off x="4964400" y="2835000"/>
                  <a:ext cx="4143240" cy="20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解：设爸爸的体重为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kg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5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6320160" y="3576240"/>
                  <a:ext cx="504720" cy="778680"/>
                  <a:chOff x="6320160" y="3576240"/>
                  <a:chExt cx="504720" cy="77868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6320160" y="393192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409080" y="35762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386760" y="39952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29920" y="4024080"/>
                  <a:ext cx="586800" cy="778680"/>
                  <a:chOff x="7729920" y="4024080"/>
                  <a:chExt cx="586800" cy="7786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7812000" y="437976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729920" y="4024080"/>
                    <a:ext cx="5806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7792920" y="44431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6" name=""/>
            <p:cNvGrpSpPr/>
            <p:nvPr/>
          </p:nvGrpSpPr>
          <p:grpSpPr>
            <a:xfrm>
              <a:off x="6118560" y="3105000"/>
              <a:ext cx="504720" cy="778680"/>
              <a:chOff x="6118560" y="3105000"/>
              <a:chExt cx="504720" cy="778680"/>
            </a:xfrm>
          </p:grpSpPr>
          <p:sp>
            <p:nvSpPr>
              <p:cNvPr id="317" name=""/>
              <p:cNvSpPr/>
              <p:nvPr/>
            </p:nvSpPr>
            <p:spPr>
              <a:xfrm>
                <a:off x="6118560" y="3460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07480" y="3105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185160" y="3524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三）回顾与反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385920" y="2109960"/>
            <a:ext cx="140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1174680" y="2109960"/>
            <a:ext cx="7358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刚才同学们用两种不同的方法求出了爸爸的体重，那么对不对呢？都可以怎样检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60280" y="2928960"/>
            <a:ext cx="4357800" cy="1639080"/>
            <a:chOff x="260280" y="2928960"/>
            <a:chExt cx="4357800" cy="1639080"/>
          </a:xfrm>
        </p:grpSpPr>
        <p:grpSp>
          <p:nvGrpSpPr>
            <p:cNvPr id="325" name=""/>
            <p:cNvGrpSpPr/>
            <p:nvPr/>
          </p:nvGrpSpPr>
          <p:grpSpPr>
            <a:xfrm>
              <a:off x="3936960" y="3201840"/>
              <a:ext cx="504720" cy="778680"/>
              <a:chOff x="3936960" y="3201840"/>
              <a:chExt cx="504720" cy="778680"/>
            </a:xfrm>
          </p:grpSpPr>
          <p:sp>
            <p:nvSpPr>
              <p:cNvPr id="326" name=""/>
              <p:cNvSpPr/>
              <p:nvPr/>
            </p:nvSpPr>
            <p:spPr>
              <a:xfrm>
                <a:off x="3936960" y="3557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025880" y="3201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003560" y="3620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60280" y="2928960"/>
              <a:ext cx="4357800" cy="1639080"/>
              <a:chOff x="260280" y="2928960"/>
              <a:chExt cx="4357800" cy="1639080"/>
            </a:xfrm>
          </p:grpSpPr>
          <p:sp>
            <p:nvSpPr>
              <p:cNvPr id="330" name="TextBox 12"/>
              <p:cNvSpPr/>
              <p:nvPr/>
            </p:nvSpPr>
            <p:spPr>
              <a:xfrm>
                <a:off x="260280" y="2928960"/>
                <a:ext cx="16938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预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14"/>
              <p:cNvSpPr/>
              <p:nvPr/>
            </p:nvSpPr>
            <p:spPr>
              <a:xfrm>
                <a:off x="546120" y="3357720"/>
                <a:ext cx="4000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看看小明的体重是不是爸爸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Box 25"/>
              <p:cNvSpPr/>
              <p:nvPr/>
            </p:nvSpPr>
            <p:spPr>
              <a:xfrm>
                <a:off x="903240" y="3951360"/>
                <a:ext cx="3714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5 ÷75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2174760" y="3789360"/>
                <a:ext cx="504720" cy="778680"/>
                <a:chOff x="2174760" y="3789360"/>
                <a:chExt cx="504720" cy="7786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174760" y="41450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263680" y="37893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241360" y="4208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"/>
          <p:cNvGrpSpPr/>
          <p:nvPr/>
        </p:nvGrpSpPr>
        <p:grpSpPr>
          <a:xfrm>
            <a:off x="4572000" y="2928960"/>
            <a:ext cx="4464000" cy="1616760"/>
            <a:chOff x="4572000" y="2928960"/>
            <a:chExt cx="4464000" cy="1616760"/>
          </a:xfrm>
        </p:grpSpPr>
        <p:sp>
          <p:nvSpPr>
            <p:cNvPr id="338" name="TextBox 16"/>
            <p:cNvSpPr/>
            <p:nvPr/>
          </p:nvSpPr>
          <p:spPr>
            <a:xfrm>
              <a:off x="4572000" y="2928960"/>
              <a:ext cx="1366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20"/>
            <p:cNvSpPr/>
            <p:nvPr/>
          </p:nvSpPr>
          <p:spPr>
            <a:xfrm>
              <a:off x="4857840" y="3357720"/>
              <a:ext cx="40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看小明的体重是不是比爸爸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21"/>
            <p:cNvSpPr/>
            <p:nvPr/>
          </p:nvSpPr>
          <p:spPr>
            <a:xfrm>
              <a:off x="5143680" y="3929040"/>
              <a:ext cx="3714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75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8531280" y="3152880"/>
              <a:ext cx="504720" cy="778680"/>
              <a:chOff x="8531280" y="3152880"/>
              <a:chExt cx="504720" cy="778680"/>
            </a:xfrm>
          </p:grpSpPr>
          <p:sp>
            <p:nvSpPr>
              <p:cNvPr id="342" name=""/>
              <p:cNvSpPr/>
              <p:nvPr/>
            </p:nvSpPr>
            <p:spPr>
              <a:xfrm>
                <a:off x="8531280" y="35085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620200" y="31528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97880" y="35719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500960" y="3767040"/>
              <a:ext cx="504720" cy="778680"/>
              <a:chOff x="7500960" y="3767040"/>
              <a:chExt cx="504720" cy="778680"/>
            </a:xfrm>
          </p:grpSpPr>
          <p:sp>
            <p:nvSpPr>
              <p:cNvPr id="346" name=""/>
              <p:cNvSpPr/>
              <p:nvPr/>
            </p:nvSpPr>
            <p:spPr>
              <a:xfrm>
                <a:off x="7500960" y="4122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89880" y="37670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567560" y="4186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260280" y="4437000"/>
            <a:ext cx="4286160" cy="1608840"/>
            <a:chOff x="260280" y="4437000"/>
            <a:chExt cx="4286160" cy="1608840"/>
          </a:xfrm>
        </p:grpSpPr>
        <p:sp>
          <p:nvSpPr>
            <p:cNvPr id="350" name="TextBox 31"/>
            <p:cNvSpPr/>
            <p:nvPr/>
          </p:nvSpPr>
          <p:spPr>
            <a:xfrm>
              <a:off x="546120" y="4871880"/>
              <a:ext cx="40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看小明的体重是不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千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32"/>
            <p:cNvSpPr/>
            <p:nvPr/>
          </p:nvSpPr>
          <p:spPr>
            <a:xfrm>
              <a:off x="260280" y="4437000"/>
              <a:ext cx="15494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33"/>
            <p:cNvSpPr/>
            <p:nvPr/>
          </p:nvSpPr>
          <p:spPr>
            <a:xfrm>
              <a:off x="903240" y="5437080"/>
              <a:ext cx="2857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）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192400" y="5267160"/>
              <a:ext cx="504720" cy="778680"/>
              <a:chOff x="2192400" y="5267160"/>
              <a:chExt cx="504720" cy="778680"/>
            </a:xfrm>
          </p:grpSpPr>
          <p:sp>
            <p:nvSpPr>
              <p:cNvPr id="354" name=""/>
              <p:cNvSpPr/>
              <p:nvPr/>
            </p:nvSpPr>
            <p:spPr>
              <a:xfrm>
                <a:off x="2192400" y="56228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281320" y="5267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59000" y="5686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28840" y="2714760"/>
            <a:ext cx="5051160" cy="1921320"/>
            <a:chOff x="1428840" y="2714760"/>
            <a:chExt cx="5051160" cy="1921320"/>
          </a:xfrm>
        </p:grpSpPr>
        <p:pic>
          <p:nvPicPr>
            <p:cNvPr id="359" name="左大括号 54" descr=""/>
            <p:cNvPicPr/>
            <p:nvPr/>
          </p:nvPicPr>
          <p:blipFill>
            <a:blip r:embed="rId2"/>
            <a:stretch/>
          </p:blipFill>
          <p:spPr>
            <a:xfrm>
              <a:off x="4973400" y="3462480"/>
              <a:ext cx="1476000" cy="1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0" name=""/>
            <p:cNvGrpSpPr/>
            <p:nvPr/>
          </p:nvGrpSpPr>
          <p:grpSpPr>
            <a:xfrm>
              <a:off x="1428840" y="2714760"/>
              <a:ext cx="5051160" cy="1612800"/>
              <a:chOff x="1428840" y="2714760"/>
              <a:chExt cx="5051160" cy="1612800"/>
            </a:xfrm>
          </p:grpSpPr>
          <p:pic>
            <p:nvPicPr>
              <p:cNvPr id="3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00320" y="3097440"/>
                <a:ext cx="177480" cy="457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2" name=""/>
              <p:cNvGrpSpPr/>
              <p:nvPr/>
            </p:nvGrpSpPr>
            <p:grpSpPr>
              <a:xfrm>
                <a:off x="1428840" y="2714760"/>
                <a:ext cx="5051160" cy="1612800"/>
                <a:chOff x="1428840" y="2714760"/>
                <a:chExt cx="5051160" cy="1612800"/>
              </a:xfrm>
            </p:grpSpPr>
            <p:sp>
              <p:nvSpPr>
                <p:cNvPr id="363" name="左大括号 52"/>
                <p:cNvSpPr/>
                <p:nvPr/>
              </p:nvSpPr>
              <p:spPr>
                <a:xfrm rot="5400000">
                  <a:off x="3850560" y="633960"/>
                  <a:ext cx="158760" cy="5001120"/>
                </a:xfrm>
                <a:custGeom>
                  <a:avLst/>
                  <a:gdLst>
                    <a:gd name="textAreaLeft" fmla="*/ 101520 w 158760"/>
                    <a:gd name="textAreaRight" fmla="*/ 159120 w 158760"/>
                    <a:gd name="textAreaTop" fmla="*/ 16560 h 5001120"/>
                    <a:gd name="textAreaBottom" fmla="*/ 4984560 h 5001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116"/>
                        <a:pt x="10800" y="232"/>
                      </a:cubicBezTo>
                      <a:lnTo>
                        <a:pt x="10800" y="10568"/>
                      </a:lnTo>
                      <a:cubicBezTo>
                        <a:pt x="10800" y="10684"/>
                        <a:pt x="5400" y="10800"/>
                        <a:pt x="0" y="10800"/>
                      </a:cubicBezTo>
                      <a:cubicBezTo>
                        <a:pt x="5400" y="10800"/>
                        <a:pt x="10800" y="10916"/>
                        <a:pt x="10800" y="11032"/>
                      </a:cubicBezTo>
                      <a:lnTo>
                        <a:pt x="10800" y="21368"/>
                      </a:lnTo>
                      <a:cubicBezTo>
                        <a:pt x="10800" y="21484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1428840" y="2714760"/>
                  <a:ext cx="5051160" cy="1612800"/>
                  <a:chOff x="1428840" y="2714760"/>
                  <a:chExt cx="5051160" cy="161280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1428840" y="3555000"/>
                    <a:ext cx="5001840" cy="144000"/>
                    <a:chOff x="1428840" y="3555000"/>
                    <a:chExt cx="5001840" cy="144000"/>
                  </a:xfrm>
                </p:grpSpPr>
                <p:sp>
                  <p:nvSpPr>
                    <p:cNvPr id="366" name="直接连接符 35"/>
                    <p:cNvSpPr/>
                    <p:nvPr/>
                  </p:nvSpPr>
                  <p:spPr>
                    <a:xfrm>
                      <a:off x="1429560" y="3697560"/>
                      <a:ext cx="500112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直接连接符 37"/>
                    <p:cNvSpPr/>
                    <p:nvPr/>
                  </p:nvSpPr>
                  <p:spPr>
                    <a:xfrm flipH="1">
                      <a:off x="1428840" y="3555720"/>
                      <a:ext cx="1440" cy="142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直接连接符 38"/>
                    <p:cNvSpPr/>
                    <p:nvPr/>
                  </p:nvSpPr>
                  <p:spPr>
                    <a:xfrm flipH="1">
                      <a:off x="4285800" y="3555000"/>
                      <a:ext cx="1440" cy="142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直接连接符 39"/>
                    <p:cNvSpPr/>
                    <p:nvPr/>
                  </p:nvSpPr>
                  <p:spPr>
                    <a:xfrm flipH="1">
                      <a:off x="2143080" y="3555720"/>
                      <a:ext cx="1440" cy="142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直接连接符 41"/>
                    <p:cNvSpPr/>
                    <p:nvPr/>
                  </p:nvSpPr>
                  <p:spPr>
                    <a:xfrm flipH="1">
                      <a:off x="2857680" y="3555720"/>
                      <a:ext cx="1440" cy="142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直接连接符 42"/>
                    <p:cNvSpPr/>
                    <p:nvPr/>
                  </p:nvSpPr>
                  <p:spPr>
                    <a:xfrm flipH="1">
                      <a:off x="5000400" y="3555000"/>
                      <a:ext cx="1440" cy="142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直接连接符 43"/>
                    <p:cNvSpPr/>
                    <p:nvPr/>
                  </p:nvSpPr>
                  <p:spPr>
                    <a:xfrm flipH="1">
                      <a:off x="3572280" y="3555720"/>
                      <a:ext cx="1440" cy="142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直接连接符 46"/>
                    <p:cNvSpPr/>
                    <p:nvPr/>
                  </p:nvSpPr>
                  <p:spPr>
                    <a:xfrm flipH="1">
                      <a:off x="6429240" y="3555000"/>
                      <a:ext cx="1440" cy="142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直接连接符 48"/>
                    <p:cNvSpPr/>
                    <p:nvPr/>
                  </p:nvSpPr>
                  <p:spPr>
                    <a:xfrm flipH="1">
                      <a:off x="5715720" y="3555720"/>
                      <a:ext cx="1440" cy="142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TextBox 53"/>
                  <p:cNvSpPr/>
                  <p:nvPr/>
                </p:nvSpPr>
                <p:spPr>
                  <a:xfrm>
                    <a:off x="3502080" y="2714760"/>
                    <a:ext cx="1000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TextBox 56"/>
                  <p:cNvSpPr/>
                  <p:nvPr/>
                </p:nvSpPr>
                <p:spPr>
                  <a:xfrm>
                    <a:off x="5288040" y="3166920"/>
                    <a:ext cx="1071360" cy="349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还剩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左大括号 57"/>
                  <p:cNvSpPr/>
                  <p:nvPr/>
                </p:nvSpPr>
                <p:spPr>
                  <a:xfrm rot="16200000">
                    <a:off x="3107880" y="2064960"/>
                    <a:ext cx="213840" cy="3572280"/>
                  </a:xfrm>
                  <a:custGeom>
                    <a:avLst/>
                    <a:gdLst>
                      <a:gd name="textAreaLeft" fmla="*/ 136800 w 213840"/>
                      <a:gd name="textAreaRight" fmla="*/ 214200 w 213840"/>
                      <a:gd name="textAreaTop" fmla="*/ 22320 h 3572280"/>
                      <a:gd name="textAreaBottom" fmla="*/ 3549960 h 357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219"/>
                          <a:pt x="10800" y="438"/>
                        </a:cubicBezTo>
                        <a:lnTo>
                          <a:pt x="10800" y="10362"/>
                        </a:lnTo>
                        <a:cubicBezTo>
                          <a:pt x="10800" y="10581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019"/>
                          <a:pt x="10800" y="11238"/>
                        </a:cubicBezTo>
                        <a:lnTo>
                          <a:pt x="10800" y="21162"/>
                        </a:lnTo>
                        <a:cubicBezTo>
                          <a:pt x="10800" y="21381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TextBox 58"/>
                  <p:cNvSpPr/>
                  <p:nvPr/>
                </p:nvSpPr>
                <p:spPr>
                  <a:xfrm>
                    <a:off x="2716200" y="3929040"/>
                    <a:ext cx="1071360" cy="349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读了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5</a:t>
                    </a:r>
                    <a:r>
                      <a:rPr b="0" lang="zh-CN" sz="1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页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79" name="左大括号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2440" y="4120560"/>
                    <a:ext cx="5047560" cy="2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380" name="TextBox 60"/>
            <p:cNvSpPr/>
            <p:nvPr/>
          </p:nvSpPr>
          <p:spPr>
            <a:xfrm>
              <a:off x="3644640" y="4286520"/>
              <a:ext cx="10713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？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55640" y="1593720"/>
            <a:ext cx="7597800" cy="1978200"/>
            <a:chOff x="755640" y="1593720"/>
            <a:chExt cx="7597800" cy="1978200"/>
          </a:xfrm>
        </p:grpSpPr>
        <p:sp>
          <p:nvSpPr>
            <p:cNvPr id="382" name="TextBox 16"/>
            <p:cNvSpPr/>
            <p:nvPr/>
          </p:nvSpPr>
          <p:spPr>
            <a:xfrm>
              <a:off x="755640" y="1593720"/>
              <a:ext cx="71438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这本课外读物一共有多少页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5"/>
            <a:stretch/>
          </p:blipFill>
          <p:spPr>
            <a:xfrm>
              <a:off x="6691320" y="1773000"/>
              <a:ext cx="166212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AutoShape 27"/>
            <p:cNvSpPr/>
            <p:nvPr/>
          </p:nvSpPr>
          <p:spPr>
            <a:xfrm>
              <a:off x="1620720" y="1628640"/>
              <a:ext cx="5688000" cy="649440"/>
            </a:xfrm>
            <a:prstGeom prst="wedgeRoundRectCallout">
              <a:avLst>
                <a:gd name="adj1" fmla="val 51537"/>
                <a:gd name="adj2" fmla="val 33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这本课外读物我读了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页，还剩下      没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819760" y="1521000"/>
            <a:ext cx="511200" cy="778320"/>
            <a:chOff x="5819760" y="1521000"/>
            <a:chExt cx="511200" cy="778320"/>
          </a:xfrm>
        </p:grpSpPr>
        <p:sp>
          <p:nvSpPr>
            <p:cNvPr id="386" name=""/>
            <p:cNvSpPr/>
            <p:nvPr/>
          </p:nvSpPr>
          <p:spPr>
            <a:xfrm>
              <a:off x="5826240" y="18763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19760" y="15210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5600" y="193968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68360" y="4292640"/>
            <a:ext cx="3929040" cy="2245320"/>
            <a:chOff x="468360" y="4292640"/>
            <a:chExt cx="3929040" cy="2245320"/>
          </a:xfrm>
        </p:grpSpPr>
        <p:sp>
          <p:nvSpPr>
            <p:cNvPr id="390" name="TextBox 21"/>
            <p:cNvSpPr/>
            <p:nvPr/>
          </p:nvSpPr>
          <p:spPr>
            <a:xfrm>
              <a:off x="468360" y="4292640"/>
              <a:ext cx="17384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68360" y="4716360"/>
              <a:ext cx="3929040" cy="1821600"/>
              <a:chOff x="468360" y="4716360"/>
              <a:chExt cx="3929040" cy="1821600"/>
            </a:xfrm>
          </p:grpSpPr>
          <p:sp>
            <p:nvSpPr>
              <p:cNvPr id="392" name="TextBox 22"/>
              <p:cNvSpPr/>
              <p:nvPr/>
            </p:nvSpPr>
            <p:spPr>
              <a:xfrm>
                <a:off x="468360" y="4716360"/>
                <a:ext cx="3929040" cy="182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解：设这本课外读物一共有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页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1532160" y="4991040"/>
                <a:ext cx="510480" cy="778680"/>
                <a:chOff x="1532160" y="4991040"/>
                <a:chExt cx="510480" cy="7786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538280" y="534672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532160" y="499104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547640" y="541008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479600" y="5607000"/>
                <a:ext cx="511200" cy="778680"/>
                <a:chOff x="1479600" y="5607000"/>
                <a:chExt cx="511200" cy="7786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486080" y="59626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479600" y="56070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495440" y="60260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"/>
          <p:cNvGrpSpPr/>
          <p:nvPr/>
        </p:nvGrpSpPr>
        <p:grpSpPr>
          <a:xfrm>
            <a:off x="4500720" y="4257720"/>
            <a:ext cx="3958920" cy="2097000"/>
            <a:chOff x="4500720" y="4257720"/>
            <a:chExt cx="3958920" cy="2097000"/>
          </a:xfrm>
        </p:grpSpPr>
        <p:sp>
          <p:nvSpPr>
            <p:cNvPr id="402" name="TextBox 30"/>
            <p:cNvSpPr/>
            <p:nvPr/>
          </p:nvSpPr>
          <p:spPr>
            <a:xfrm>
              <a:off x="4500720" y="4257720"/>
              <a:ext cx="1750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31"/>
            <p:cNvSpPr/>
            <p:nvPr/>
          </p:nvSpPr>
          <p:spPr>
            <a:xfrm>
              <a:off x="4500720" y="4697280"/>
              <a:ext cx="395892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：设这本课外读物一共有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页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862600" y="4964040"/>
              <a:ext cx="510120" cy="778680"/>
              <a:chOff x="5862600" y="4964040"/>
              <a:chExt cx="510120" cy="778680"/>
            </a:xfrm>
          </p:grpSpPr>
          <p:sp>
            <p:nvSpPr>
              <p:cNvPr id="405" name=""/>
              <p:cNvSpPr/>
              <p:nvPr/>
            </p:nvSpPr>
            <p:spPr>
              <a:xfrm>
                <a:off x="5868720" y="5319720"/>
                <a:ext cx="504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62600" y="4964040"/>
                <a:ext cx="359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78080" y="5383080"/>
                <a:ext cx="28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022800" y="5462640"/>
              <a:ext cx="510480" cy="778680"/>
              <a:chOff x="6022800" y="5462640"/>
              <a:chExt cx="510480" cy="778680"/>
            </a:xfrm>
          </p:grpSpPr>
          <p:sp>
            <p:nvSpPr>
              <p:cNvPr id="409" name=""/>
              <p:cNvSpPr/>
              <p:nvPr/>
            </p:nvSpPr>
            <p:spPr>
              <a:xfrm>
                <a:off x="6028920" y="58183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22800" y="546264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38280" y="588168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44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